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1.jpeg" ContentType="image/jpeg"/>
  <Override PartName="/ppt/media/image7.png" ContentType="image/png"/>
  <Override PartName="/ppt/media/image13.jpeg" ContentType="image/jpeg"/>
  <Override PartName="/ppt/media/image9.png" ContentType="image/png"/>
  <Override PartName="/ppt/media/image5.png" ContentType="image/png"/>
  <Override PartName="/ppt/media/image8.jpeg" ContentType="image/jpeg"/>
  <Override PartName="/ppt/media/image10.jpeg" ContentType="image/jpeg"/>
  <Override PartName="/ppt/media/image6.wmf" ContentType="image/x-wmf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4C5FD-6516-4F1D-BB85-4649866FF57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0C34C-6D2B-44F1-8541-CA02BD154D8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20FB4-F231-4609-95FD-D7403A45B6C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A4767-4E82-4A33-896D-49C4278713F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9DDCF-416B-45EE-B451-1FB8B6638D3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AD789-0F93-471C-AED4-EA74F031344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10020-726D-4913-AB5E-9CAF1F55963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748F8-3D3A-4EE8-ABCC-0C31F739F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59308-682D-4654-BD9B-7A2275896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2C25A-1ADF-471D-A5F9-4F91370C9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8E0F3-6550-41B7-91A0-7074B3BC3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E6DDF-CA78-4874-94D7-DCE456529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8FA79-8C65-417B-B523-4098E59A3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1476A-2B0F-4DA6-BC93-65BF1B4F8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B1D5D-FF2A-4A0A-94F5-D6125972B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6C0E9-6BE1-4AB2-A761-8DA7B19F0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93218-F0B0-4226-99D3-7109127CB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C0E42-3130-401A-A654-F090F61AC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1E390-258B-44B0-9D58-556190956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7BBE3-8887-4C25-ADE4-B59CB3443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F48BA-ED64-4A6D-A2E5-079618A18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9CE3E-552A-486C-BA4B-3DBF26A55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D62A8-F6C1-4DFA-A86C-C2E92BA99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9528A-B457-4C3E-B410-F4C4EE435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4F302-43DC-4062-94EE-DBF008E8D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B084C-2E35-4BE9-A0D7-4895DCA70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1D663-A3A7-4591-B5F8-AA391EB4E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200CB-808A-47A0-AA92-8B78F2AAD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A11D6-4F90-45FC-B4EB-243035BD3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D1188-E8A9-4019-ADC7-5EFC34A5D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B60D3-1F6A-4EBF-BC0B-7FDADEF84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C47F3-4784-4166-86D7-69568EFE90A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D4159-6276-43FC-96AF-A2943CC1D83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ФЕРМЕН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00720" y="1071720"/>
            <a:ext cx="4464000" cy="36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Ферменты,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или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энзимы,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это органические катализаторы белковой природы, которые ускоряют реакции, необходимые для функционирования живых организмо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480px-Purine_Nucleoside_Phosphorylase"/>
          <p:cNvPicPr/>
          <p:nvPr/>
        </p:nvPicPr>
        <p:blipFill>
          <a:blip r:embed="rId1"/>
          <a:stretch/>
        </p:blipFill>
        <p:spPr>
          <a:xfrm>
            <a:off x="285840" y="1000080"/>
            <a:ext cx="3643200" cy="22575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7" descr="enzymes"/>
          <p:cNvPicPr/>
          <p:nvPr/>
        </p:nvPicPr>
        <p:blipFill>
          <a:blip r:embed="rId2"/>
          <a:stretch/>
        </p:blipFill>
        <p:spPr>
          <a:xfrm>
            <a:off x="214200" y="3571920"/>
            <a:ext cx="3571920" cy="26431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" descr="332073450"/>
          <p:cNvPicPr/>
          <p:nvPr/>
        </p:nvPicPr>
        <p:blipFill>
          <a:blip r:embed="rId3"/>
          <a:stretch/>
        </p:blipFill>
        <p:spPr>
          <a:xfrm>
            <a:off x="4786200" y="4500720"/>
            <a:ext cx="3726000" cy="22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9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4DFE9-407E-4576-A0D2-54FEAEA44B5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99"/>
                </a:solidFill>
                <a:latin typeface="Arial"/>
              </a:rPr>
              <a:t>Отличия ферментов от небиологических катализаторов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Удивительная эффективность ферментов</a:t>
            </a: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4"/>
          <p:cNvSpPr/>
          <p:nvPr/>
        </p:nvSpPr>
        <p:spPr>
          <a:xfrm>
            <a:off x="539640" y="1268280"/>
            <a:ext cx="8425080" cy="0"/>
          </a:xfrm>
          <a:prstGeom prst="line">
            <a:avLst/>
          </a:prstGeom>
          <a:ln w="572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900000" y="3573360"/>
          <a:ext cx="7632720" cy="1965600"/>
        </p:xfrm>
        <a:graphic>
          <a:graphicData uri="http://schemas.openxmlformats.org/drawingml/2006/table">
            <a:tbl>
              <a:tblPr/>
              <a:tblGrid>
                <a:gridCol w="3996000"/>
                <a:gridCol w="3636720"/>
              </a:tblGrid>
              <a:tr h="73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100" spc="-1" strike="noStrike">
                          <a:solidFill>
                            <a:srgbClr val="000099"/>
                          </a:solidFill>
                          <a:latin typeface="Times New Roman"/>
                          <a:ea typeface="SimSun"/>
                        </a:rPr>
                        <a:t>Фермент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100" spc="-1" strike="noStrike">
                          <a:solidFill>
                            <a:srgbClr val="000099"/>
                          </a:solidFill>
                          <a:latin typeface="Times New Roman"/>
                          <a:ea typeface="SimSun"/>
                        </a:rPr>
                        <a:t>Число оборотов</a:t>
                      </a:r>
                      <a:r>
                        <a:rPr b="1" lang="ru-RU" sz="21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2100" spc="-1" strike="noStrike">
                          <a:solidFill>
                            <a:srgbClr val="000099"/>
                          </a:solidFill>
                          <a:latin typeface="Times New Roman"/>
                          <a:ea typeface="SimSun"/>
                        </a:rPr>
                        <a:t>в </a:t>
                      </a:r>
                      <a:br>
                        <a:rPr sz="2100"/>
                      </a:br>
                      <a:r>
                        <a:rPr b="1" lang="ru-RU" sz="2100" spc="-1" strike="noStrike">
                          <a:solidFill>
                            <a:srgbClr val="000099"/>
                          </a:solidFill>
                          <a:latin typeface="Times New Roman"/>
                          <a:ea typeface="SimSun"/>
                        </a:rPr>
                        <a:t>1 мин при 37°С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>
                      <a:noFill/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noFill/>
                  </a:tcPr>
                </a:tc>
              </a:tr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100" spc="-1" strike="noStrike">
                          <a:solidFill>
                            <a:srgbClr val="000099"/>
                          </a:solidFill>
                          <a:latin typeface="Times New Roman"/>
                          <a:ea typeface="SimSun"/>
                        </a:rPr>
                        <a:t>Карбоангидраза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100" spc="-1" strike="noStrike">
                          <a:solidFill>
                            <a:srgbClr val="000099"/>
                          </a:solidFill>
                          <a:latin typeface="Times New Roman"/>
                          <a:ea typeface="SimSun"/>
                        </a:rPr>
                        <a:t>36 000 000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>
                      <a:noFill/>
                    </a:lnR>
                    <a:lnT w="13680">
                      <a:solidFill>
                        <a:srgbClr val="003399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1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</a:t>
                      </a:r>
                      <a:r>
                        <a:rPr b="1" lang="en-US" sz="21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</a:t>
                      </a:r>
                      <a:r>
                        <a:rPr b="1" lang="ru-RU" sz="2100" spc="-1" strike="noStrike">
                          <a:solidFill>
                            <a:srgbClr val="000099"/>
                          </a:solidFill>
                          <a:latin typeface="Times New Roman"/>
                          <a:ea typeface="SimSun"/>
                        </a:rPr>
                        <a:t>Амилаза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3399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100" spc="-1" strike="noStrike">
                          <a:solidFill>
                            <a:srgbClr val="000099"/>
                          </a:solidFill>
                          <a:latin typeface="Times New Roman"/>
                          <a:ea typeface="SimSun"/>
                        </a:rPr>
                        <a:t>1 100 000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100" spc="-1" strike="noStrike">
                          <a:solidFill>
                            <a:srgbClr val="000099"/>
                          </a:solidFill>
                          <a:latin typeface="Times New Roman"/>
                          <a:ea typeface="SimSun"/>
                        </a:rPr>
                        <a:t>Фосфоглюкомутаза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3399"/>
                      </a:solidFill>
                    </a:lnR>
                    <a:lnT>
                      <a:noFill/>
                    </a:lnT>
                    <a:lnB w="1368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100" spc="-1" strike="noStrike">
                          <a:solidFill>
                            <a:srgbClr val="000099"/>
                          </a:solidFill>
                          <a:latin typeface="Times New Roman"/>
                          <a:ea typeface="SimSun"/>
                        </a:rPr>
                        <a:t>1 240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2" name="Text Box 126"/>
          <p:cNvSpPr/>
          <p:nvPr/>
        </p:nvSpPr>
        <p:spPr>
          <a:xfrm>
            <a:off x="938160" y="2984400"/>
            <a:ext cx="650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исло оборотов некоторых фермент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F846D-0D4D-425A-AA2C-517D3653433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3399"/>
                </a:solidFill>
                <a:latin typeface="Arial"/>
              </a:rPr>
              <a:t>Коферменты и витамины</a:t>
            </a:r>
            <a:r>
              <a:rPr b="0" lang="ru-RU" sz="34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3"/>
          <p:cNvSpPr/>
          <p:nvPr/>
        </p:nvSpPr>
        <p:spPr>
          <a:xfrm>
            <a:off x="539640" y="1125360"/>
            <a:ext cx="8425080" cy="0"/>
          </a:xfrm>
          <a:prstGeom prst="line">
            <a:avLst/>
          </a:prstGeom>
          <a:ln w="572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468360" y="1268280"/>
          <a:ext cx="8542440" cy="4846680"/>
        </p:xfrm>
        <a:graphic>
          <a:graphicData uri="http://schemas.openxmlformats.org/drawingml/2006/table">
            <a:tbl>
              <a:tblPr/>
              <a:tblGrid>
                <a:gridCol w="1871640"/>
                <a:gridCol w="3141720"/>
                <a:gridCol w="35290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SimSun"/>
                        </a:rPr>
                        <a:t>Витами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SimSun"/>
                        </a:rPr>
                        <a:t>Коферментная форм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SimSun"/>
                        </a:rPr>
                        <a:t>Тип катализируемой реак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SimSun"/>
                        </a:rPr>
                        <a:t>Водорастворимые витамин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SimSun"/>
                        </a:rPr>
                        <a:t>Тиамин (В</a:t>
                      </a:r>
                      <a:r>
                        <a:rPr b="1" lang="ru-RU" sz="1400" spc="-1" strike="noStrike" baseline="-30000">
                          <a:solidFill>
                            <a:srgbClr val="000099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SimSun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SimSun"/>
                        </a:rPr>
                        <a:t>Тиаминпирофосфа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SimSun"/>
                        </a:rPr>
                        <a:t>Декарбоксилирование </a:t>
                      </a:r>
                      <a:r>
                        <a:rPr b="1" i="1" lang="en-US" sz="14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</a:t>
                      </a: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SimSun"/>
                        </a:rPr>
                        <a:t>-кетокисло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SimSun"/>
                        </a:rPr>
                        <a:t>Рибофлавин (В</a:t>
                      </a:r>
                      <a:r>
                        <a:rPr b="1" lang="ru-RU" sz="1400" spc="-1" strike="noStrike" baseline="-30000">
                          <a:solidFill>
                            <a:srgbClr val="000099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SimSun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SimSun"/>
                        </a:rPr>
                        <a:t>Флавинмононуклеотид, флавинадениндинуклеоти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SimSun"/>
                        </a:rPr>
                        <a:t>Окислительно-восстановительные реак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SimSun"/>
                        </a:rPr>
                        <a:t>Никотиновая </a:t>
                      </a:r>
                      <a:br>
                        <a:rPr sz="1400"/>
                      </a:b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SimSun"/>
                        </a:rPr>
                        <a:t>кислот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SimSun"/>
                        </a:rPr>
                        <a:t>Никотинамидаденин-</a:t>
                      </a:r>
                      <a:br>
                        <a:rPr sz="1400"/>
                      </a:b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SimSun"/>
                        </a:rPr>
                        <a:t>динуклеотид,</a:t>
                      </a: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SimSun"/>
                        </a:rPr>
                        <a:t>никотинамид</a:t>
                      </a: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SimSun"/>
                        </a:rPr>
                        <a:t>адениндинуклеотидфосфа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SimSun"/>
                        </a:rPr>
                        <a:t>Окислительно-восстановительные реак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SimSun"/>
                        </a:rPr>
                        <a:t>Пантотеновая кислот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SimSun"/>
                        </a:rPr>
                        <a:t>Кофермент (коэнзим) 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SimSun"/>
                        </a:rPr>
                        <a:t>Перенос ацильных груп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SimSun"/>
                        </a:rPr>
                        <a:t>Пиридоксин (В</a:t>
                      </a:r>
                      <a:r>
                        <a:rPr b="1" lang="ru-RU" sz="1400" spc="-1" strike="noStrike" baseline="-30000">
                          <a:solidFill>
                            <a:srgbClr val="000099"/>
                          </a:solidFill>
                          <a:latin typeface="Times New Roman"/>
                          <a:ea typeface="SimSun"/>
                        </a:rPr>
                        <a:t>6</a:t>
                      </a: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SimSun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SimSun"/>
                        </a:rPr>
                        <a:t>Пиридоксальфосфа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SimSun"/>
                        </a:rPr>
                        <a:t>Перенос аминогруп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SimSun"/>
                        </a:rPr>
                        <a:t>Биотин (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SimSun"/>
                        </a:rPr>
                        <a:t>H</a:t>
                      </a: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SimSun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SimSun"/>
                        </a:rPr>
                        <a:t>Биотици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SimSun"/>
                        </a:rPr>
                        <a:t>Перенос СО</a:t>
                      </a:r>
                      <a:r>
                        <a:rPr b="1" lang="ru-RU" sz="1400" spc="-1" strike="noStrike" baseline="-30000">
                          <a:solidFill>
                            <a:srgbClr val="000099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SimSun"/>
                        </a:rPr>
                        <a:t>Фолиевая </a:t>
                      </a:r>
                      <a:br>
                        <a:rPr sz="1400"/>
                      </a:b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SimSun"/>
                        </a:rPr>
                        <a:t>кисло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SimSun"/>
                        </a:rPr>
                        <a:t>Тетрагидрофола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SimSun"/>
                        </a:rPr>
                        <a:t>Перенос одноуглеродных груп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SimSun"/>
                        </a:rPr>
                        <a:t>Витамин В</a:t>
                      </a:r>
                      <a:r>
                        <a:rPr b="1" lang="ru-RU" sz="1400" spc="-1" strike="noStrike" baseline="-30000">
                          <a:solidFill>
                            <a:srgbClr val="000099"/>
                          </a:solidFill>
                          <a:latin typeface="Times New Roman"/>
                          <a:ea typeface="SimSun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SimSun"/>
                        </a:rPr>
                        <a:t>Дезоксиаденозилкобалами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SimSun"/>
                        </a:rPr>
                        <a:t>Перенос связанного с углеродом атома водорода на соседний атом углеро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SimSun"/>
                        </a:rPr>
                        <a:t>Аскорбиновая кислота (С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SimSun"/>
                        </a:rPr>
                        <a:t>Не извест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SimSun"/>
                        </a:rPr>
                        <a:t>Реакции гидроксилиров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09B2B-8C83-49B4-8843-81AF10EEED5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3399"/>
                </a:solidFill>
                <a:latin typeface="Arial"/>
              </a:rPr>
              <a:t>Коферменты и витамины</a:t>
            </a:r>
            <a:r>
              <a:rPr b="0" lang="ru-RU" sz="34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3"/>
          <p:cNvSpPr/>
          <p:nvPr/>
        </p:nvSpPr>
        <p:spPr>
          <a:xfrm>
            <a:off x="539640" y="1125360"/>
            <a:ext cx="8425080" cy="0"/>
          </a:xfrm>
          <a:prstGeom prst="line">
            <a:avLst/>
          </a:prstGeom>
          <a:ln w="572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468360" y="1681200"/>
          <a:ext cx="8496360" cy="2212920"/>
        </p:xfrm>
        <a:graphic>
          <a:graphicData uri="http://schemas.openxmlformats.org/drawingml/2006/table">
            <a:tbl>
              <a:tblPr/>
              <a:tblGrid>
                <a:gridCol w="1582560"/>
                <a:gridCol w="3673440"/>
                <a:gridCol w="3240360"/>
              </a:tblGrid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3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SimSun"/>
                        </a:rPr>
                        <a:t>Витами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3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SimSun"/>
                        </a:rPr>
                        <a:t>Коферментная форм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3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SimSun"/>
                        </a:rPr>
                        <a:t>Тип катализируемой реак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80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SimSun"/>
                        </a:rPr>
                        <a:t>Жирорастворимые витамин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3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SimSun"/>
                        </a:rPr>
                        <a:t>Витамин 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3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SimSun"/>
                        </a:rPr>
                        <a:t>Ретина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3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SimSun"/>
                        </a:rPr>
                        <a:t>Зрительный процес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3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SimSun"/>
                        </a:rPr>
                        <a:t>Витамин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3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SimSun"/>
                        </a:rPr>
                        <a:t>1,25-Дигидроксихолекальциферо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3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SimSun"/>
                        </a:rPr>
                        <a:t>Регуляция обмена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SimSun"/>
                        </a:rPr>
                        <a:t>C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3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SimSun"/>
                        </a:rPr>
                        <a:t>Витамин 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3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SimSun"/>
                        </a:rPr>
                        <a:t>Не извест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3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SimSun"/>
                        </a:rPr>
                        <a:t>Защита мембранных липид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3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SimSun"/>
                        </a:rPr>
                        <a:t>Витамин 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3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SimSun"/>
                        </a:rPr>
                        <a:t>Не извест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30000"/>
                        </a:lnSpc>
                        <a:spcBef>
                          <a:spcPts val="876"/>
                        </a:spcBef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SimSun"/>
                        </a:rPr>
                        <a:t>Реакции декарбоксилиров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7"/>
          <p:cNvSpPr/>
          <p:nvPr/>
        </p:nvSpPr>
        <p:spPr>
          <a:xfrm>
            <a:off x="971640" y="981000"/>
            <a:ext cx="75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словия действия ферменто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8"/>
          <p:cNvSpPr/>
          <p:nvPr/>
        </p:nvSpPr>
        <p:spPr>
          <a:xfrm>
            <a:off x="900000" y="2276640"/>
            <a:ext cx="655164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емпература 30 – 5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еакция среды (рН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збирательность действ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бщие свойств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293e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93ed7"/>
                </a:solidFill>
                <a:latin typeface="Arial"/>
              </a:rPr>
              <a:t>способны к растворению в воде и образованию коллоидных растворов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293e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93ed7"/>
                </a:solidFill>
                <a:latin typeface="Arial"/>
              </a:rPr>
              <a:t>увеличивают скорость реакции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293e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93ed7"/>
                </a:solidFill>
                <a:latin typeface="Arial"/>
              </a:rPr>
              <a:t>не расходуются в реакци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293e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93ed7"/>
                </a:solidFill>
                <a:latin typeface="Arial"/>
              </a:rPr>
              <a:t>амфотерны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293e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93ed7"/>
                </a:solidFill>
                <a:latin typeface="Arial"/>
              </a:rPr>
              <a:t>их присутствие не влияет на свойства продуктов реакци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293e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93ed7"/>
                </a:solidFill>
                <a:latin typeface="Arial"/>
              </a:rPr>
              <a:t>характерно протекание цветных реакций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293e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93ed7"/>
                </a:solidFill>
                <a:latin typeface="Arial"/>
              </a:rPr>
              <a:t>изменяют энергию активации, при которой может произойти реакция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293e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93ed7"/>
                </a:solidFill>
                <a:latin typeface="Arial"/>
              </a:rPr>
              <a:t>не изменяют сколько-нибудь значительно температуру, при которой происходит реакц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293e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93ed7"/>
                </a:solidFill>
                <a:latin typeface="Arial"/>
              </a:rPr>
              <a:t>способны к денатурации и гидролиз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пецифические свойств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00"/>
                </a:solidFill>
                <a:latin typeface="Arial"/>
              </a:rPr>
              <a:t>Сочетание высочайшей активности с соблюдением строгого ряда услови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00"/>
                </a:solidFill>
                <a:latin typeface="Arial"/>
              </a:rPr>
              <a:t>Специфичность действия по принципу «ключ – замок» или «рука – перчатка»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00"/>
                </a:solidFill>
                <a:latin typeface="Arial"/>
              </a:rPr>
              <a:t>Стабильность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00"/>
                </a:solidFill>
                <a:latin typeface="Arial"/>
              </a:rPr>
              <a:t>Обратимость действ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99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           </a:t>
            </a: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Е +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S ↔ ES → E + P</a:t>
            </a:r>
            <a:r>
              <a:rPr b="0" lang="ru-RU" sz="3200" spc="-1" strike="noStrike">
                <a:solidFill>
                  <a:srgbClr val="009900"/>
                </a:solidFill>
                <a:latin typeface="Arial"/>
              </a:rPr>
              <a:t>,гд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9900"/>
                </a:solidFill>
                <a:latin typeface="Arial"/>
              </a:rPr>
              <a:t>Е – энзим;        </a:t>
            </a:r>
            <a:r>
              <a:rPr b="0" lang="en-US" sz="2000" spc="-1" strike="noStrike">
                <a:solidFill>
                  <a:srgbClr val="009900"/>
                </a:solidFill>
                <a:latin typeface="Arial"/>
              </a:rPr>
              <a:t>S – </a:t>
            </a:r>
            <a:r>
              <a:rPr b="0" lang="ru-RU" sz="2000" spc="-1" strike="noStrike">
                <a:solidFill>
                  <a:srgbClr val="009900"/>
                </a:solidFill>
                <a:latin typeface="Arial"/>
              </a:rPr>
              <a:t>субстрат</a:t>
            </a:r>
            <a:r>
              <a:rPr b="0" lang="en-US" sz="2000" spc="-1" strike="noStrike">
                <a:solidFill>
                  <a:srgbClr val="009900"/>
                </a:solidFill>
                <a:latin typeface="Arial"/>
              </a:rPr>
              <a:t>,</a:t>
            </a:r>
            <a:r>
              <a:rPr b="0" lang="ru-RU" sz="2000" spc="-1" strike="noStrike">
                <a:solidFill>
                  <a:srgbClr val="0099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9900"/>
                </a:solidFill>
                <a:latin typeface="Arial"/>
              </a:rPr>
              <a:t>P</a:t>
            </a:r>
            <a:r>
              <a:rPr b="0" lang="ru-RU" sz="2000" spc="-1" strike="noStrike">
                <a:solidFill>
                  <a:srgbClr val="009900"/>
                </a:solidFill>
                <a:latin typeface="Arial"/>
              </a:rPr>
              <a:t> – продукт реакци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Arial"/>
              </a:rPr>
              <a:t>ES – </a:t>
            </a:r>
            <a:r>
              <a:rPr b="0" lang="ru-RU" sz="2000" spc="-1" strike="noStrike">
                <a:solidFill>
                  <a:srgbClr val="009900"/>
                </a:solidFill>
                <a:latin typeface="Arial"/>
              </a:rPr>
              <a:t>фермент-субстратный комплек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7543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оль ферментов в жизнедеятельности организмо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293e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93ed7"/>
                </a:solidFill>
                <a:latin typeface="Arial"/>
              </a:rPr>
              <a:t>Врожденные нарушения обмен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293e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93ed7"/>
                </a:solidFill>
                <a:latin typeface="Arial"/>
              </a:rPr>
              <a:t>Взаимопревращения вещест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293e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93ed7"/>
                </a:solidFill>
                <a:latin typeface="Arial"/>
              </a:rPr>
              <a:t>Биохимическая революц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293e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93ed7"/>
                </a:solidFill>
                <a:latin typeface="Arial"/>
              </a:rPr>
              <a:t>Превращение энерги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293e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93ed7"/>
                </a:solidFill>
                <a:latin typeface="Arial"/>
              </a:rPr>
              <a:t>Биосинтез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293e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93ed7"/>
                </a:solidFill>
                <a:latin typeface="Arial"/>
              </a:rPr>
              <a:t>Фармаколог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293e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93ed7"/>
                </a:solidFill>
                <a:latin typeface="Arial"/>
              </a:rPr>
              <a:t>Ультраструктура мембран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293e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93ed7"/>
                </a:solidFill>
                <a:latin typeface="Arial"/>
              </a:rPr>
              <a:t>Генетический аппарат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293e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93ed7"/>
                </a:solidFill>
                <a:latin typeface="Arial"/>
              </a:rPr>
              <a:t>Питани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293e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93ed7"/>
                </a:solidFill>
                <a:latin typeface="Arial"/>
              </a:rPr>
              <a:t>Клеточный метаболиз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293e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93ed7"/>
                </a:solidFill>
                <a:latin typeface="Arial"/>
              </a:rPr>
              <a:t>Катализ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293e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93ed7"/>
                </a:solidFill>
                <a:latin typeface="Arial"/>
              </a:rPr>
              <a:t>Физиологическая регуляц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293e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93ed7"/>
                </a:solidFill>
                <a:latin typeface="Arial"/>
              </a:rPr>
              <a:t>Бактериальное броже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E4C9F-4366-40BB-BD7B-AA80AF45B42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99"/>
                </a:solidFill>
                <a:latin typeface="Arial"/>
              </a:rPr>
              <a:t>Классификация энзимов – </a:t>
            </a:r>
            <a:br>
              <a:rPr sz="3400"/>
            </a:br>
            <a:r>
              <a:rPr b="1" lang="ru-RU" sz="3400" spc="-1" strike="noStrike">
                <a:solidFill>
                  <a:srgbClr val="000099"/>
                </a:solidFill>
                <a:latin typeface="Arial"/>
              </a:rPr>
              <a:t>Е.С. (</a:t>
            </a:r>
            <a:r>
              <a:rPr b="1" lang="en-US" sz="3400" spc="-1" strike="noStrike">
                <a:solidFill>
                  <a:srgbClr val="000099"/>
                </a:solidFill>
                <a:latin typeface="Arial"/>
              </a:rPr>
              <a:t>Enzyme Classification</a:t>
            </a:r>
            <a:r>
              <a:rPr b="1" lang="ru-RU" sz="3400" spc="-1" strike="noStrike">
                <a:solidFill>
                  <a:srgbClr val="000099"/>
                </a:solidFill>
                <a:latin typeface="Arial"/>
              </a:rPr>
              <a:t>)</a:t>
            </a:r>
            <a:r>
              <a:rPr b="0" lang="ru-RU" sz="3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3"/>
          <p:cNvSpPr/>
          <p:nvPr/>
        </p:nvSpPr>
        <p:spPr>
          <a:xfrm>
            <a:off x="539640" y="1413000"/>
            <a:ext cx="8425080" cy="0"/>
          </a:xfrm>
          <a:prstGeom prst="line">
            <a:avLst/>
          </a:prstGeom>
          <a:ln w="572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35" descr=""/>
          <p:cNvPicPr/>
          <p:nvPr/>
        </p:nvPicPr>
        <p:blipFill>
          <a:blip r:embed="rId1"/>
          <a:stretch/>
        </p:blipFill>
        <p:spPr>
          <a:xfrm>
            <a:off x="395280" y="1960560"/>
            <a:ext cx="8497800" cy="40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94920" y="0"/>
            <a:ext cx="800244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лассификация фермент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289080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 типу катализируемых реакций ферменты подразделяются на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6 классов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гласно иерархической классификации ферментов. Классификация была предложена Международным союзом биохимии и молекулярной биологии.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ждый класс содержит подкласс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4" descr="img406"/>
          <p:cNvPicPr/>
          <p:nvPr/>
        </p:nvPicPr>
        <p:blipFill>
          <a:blip r:embed="rId1"/>
          <a:stretch/>
        </p:blipFill>
        <p:spPr>
          <a:xfrm>
            <a:off x="3429000" y="689040"/>
            <a:ext cx="5554800" cy="60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9" dur="8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0" dur="8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1" dur="8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81471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едицинское знач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42600" y="928440"/>
            <a:ext cx="56437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вязь между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ерментами и наследственными болезням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обмена веществ была впервые установлена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. Гэрродом в 1910-е гг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Гэррод назвал заболевания, связанные с дефектами ферментов,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врожденными ошибками метаболизма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происходит мутация в гене, кодирующем определенный фермент, может измениться аминокислотная последовательность фермента. При этом в результате большинства мутаций его каталитическая активность снижается или полностью пропадает. Если организм получает два таких мутантных гена (по одному от каждого из родителей), в организме перестает идти химическая реакция, которую катализирует данный фермент. Например, появление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льбиносо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вязано с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кращением выработки фермента тирозиназы,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отвечающего за одну из стадий синтез темного пигмента меланина.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енилкетонур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вязана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 пониженной или отсутствующей активностью фермента фенилаланин-4-гидроксилазы в печен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8" descr="46827_w640_h640_183707e36a3dafce6f1a6e0261"/>
          <p:cNvPicPr/>
          <p:nvPr/>
        </p:nvPicPr>
        <p:blipFill>
          <a:blip r:embed="rId1"/>
          <a:stretch/>
        </p:blipFill>
        <p:spPr>
          <a:xfrm>
            <a:off x="5786280" y="2571840"/>
            <a:ext cx="1571760" cy="328608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9"/>
          <p:cNvSpPr/>
          <p:nvPr/>
        </p:nvSpPr>
        <p:spPr>
          <a:xfrm>
            <a:off x="395280" y="6237360"/>
            <a:ext cx="26640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6" descr="ferment"/>
          <p:cNvPicPr/>
          <p:nvPr/>
        </p:nvPicPr>
        <p:blipFill>
          <a:blip r:embed="rId2"/>
          <a:stretch/>
        </p:blipFill>
        <p:spPr>
          <a:xfrm>
            <a:off x="6238800" y="714240"/>
            <a:ext cx="2505240" cy="157176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8" descr="profil_krf"/>
          <p:cNvPicPr/>
          <p:nvPr/>
        </p:nvPicPr>
        <p:blipFill>
          <a:blip r:embed="rId3"/>
          <a:stretch/>
        </p:blipFill>
        <p:spPr>
          <a:xfrm>
            <a:off x="7221600" y="2403360"/>
            <a:ext cx="1817640" cy="16588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0" descr="medicine-cure-facial-blushi"/>
          <p:cNvPicPr/>
          <p:nvPr/>
        </p:nvPicPr>
        <p:blipFill>
          <a:blip r:embed="rId4"/>
          <a:stretch/>
        </p:blipFill>
        <p:spPr>
          <a:xfrm>
            <a:off x="7027920" y="4214880"/>
            <a:ext cx="197316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3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8" dur="5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стория изучения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8360" y="1356840"/>
            <a:ext cx="8362800" cy="502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Термин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фермент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предложен в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XVII веке химиком ван Гельмонтом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и обсуждении механизмов пищевар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кон. ХVIII — нач. XIX вв. уже было известно, что мясо переваривается желудочным соком, а крахмал превращается в сахар под действием слюны. Однако механизм этих явлений был неизвестен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 XIX в. Луи Пастер,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зучая превращение углеводов в этиловый спирт под действием дрожжей, пришел к выводу, что этот процесс (брожение) катализируется некой жизненной силой, находящейся в дрожжевых клетках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олее ста лет назад термины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фермент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энзим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отражали различные точки зрения в теоретическом споре Л. Пастера с одной стороны, и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. Бертло и Ю. Либиха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 — с другой, о природе спиртового брожения. Собственно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ферментами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(от лат. 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fermentum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 — закваска) называли «организованные ферменты» (то есть сами живые микроорганизмы), а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термин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энзим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(от греч.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ἐν-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 — в- и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ζύμη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 — дрожжи, закваска) предложен в 1876 году В. Кюне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для «неорганизованных ферментов», секретируемых клетками, например, в желудок (пепсин) или кишечник (трипсин, амилаза). Через два года после смерти Л. Пастера в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1897 году Э. Бухнер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публиковал работу «Спиртовое брожение без дрожжевых клеток», в которой экспериментально показал, что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бесклеточный дрожжевой сок осуществляет спиртовое брожение так же, как и неразрушенные дрожжевые клетки. В 1907 году за эту работу он был удостоен Нобелевской премии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Впервые высокоочищенный кристаллический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фермент (уреаза) был выделен в 1926 году Дж. Самнером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В течение последующих 10 лет было выделено еще несколько ферментов, и белковая природа ферментов была окончательно доказан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ейчас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химикам известно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более 2000 ферментов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Все они обладают рядом специфических свойств, отличающих их от неорганических катализатор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7380360" y="6453360"/>
            <a:ext cx="143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Оглавл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5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68360" y="-100080"/>
            <a:ext cx="7632720" cy="76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актическое использов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5" descr="то что надо"/>
          <p:cNvPicPr/>
          <p:nvPr/>
        </p:nvPicPr>
        <p:blipFill>
          <a:blip r:embed="rId1"/>
          <a:stretch/>
        </p:blipFill>
        <p:spPr>
          <a:xfrm>
            <a:off x="4572000" y="785880"/>
            <a:ext cx="4429080" cy="561492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8" descr="то что надо 1"/>
          <p:cNvPicPr/>
          <p:nvPr/>
        </p:nvPicPr>
        <p:blipFill>
          <a:blip r:embed="rId2"/>
          <a:stretch/>
        </p:blipFill>
        <p:spPr>
          <a:xfrm>
            <a:off x="166680" y="785880"/>
            <a:ext cx="4119480" cy="557208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10"/>
          <p:cNvSpPr/>
          <p:nvPr/>
        </p:nvSpPr>
        <p:spPr>
          <a:xfrm>
            <a:off x="2071800" y="500040"/>
            <a:ext cx="246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13"/>
          <p:cNvSpPr/>
          <p:nvPr/>
        </p:nvSpPr>
        <p:spPr>
          <a:xfrm>
            <a:off x="571680" y="6093000"/>
            <a:ext cx="5713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6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89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Сравнение неорганических катализаторов  ферментов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457200" y="1219320"/>
          <a:ext cx="8229600" cy="5646600"/>
        </p:xfrm>
        <a:graphic>
          <a:graphicData uri="http://schemas.openxmlformats.org/drawingml/2006/table">
            <a:tbl>
              <a:tblPr/>
              <a:tblGrid>
                <a:gridCol w="2362320"/>
                <a:gridCol w="3047760"/>
                <a:gridCol w="2819520"/>
              </a:tblGrid>
              <a:tr h="855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знаки           сравнения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органические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тализаторы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ерменты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Химическ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ро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Селективнос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Оптимум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0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Интервал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мператур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6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Изменение структуры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at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ходе    реакц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7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 Увеличение скорости реакции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4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89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Сравнение неорганических катализаторов  ферментов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457200" y="1071720"/>
          <a:ext cx="8229600" cy="5665680"/>
        </p:xfrm>
        <a:graphic>
          <a:graphicData uri="http://schemas.openxmlformats.org/drawingml/2006/table">
            <a:tbl>
              <a:tblPr/>
              <a:tblGrid>
                <a:gridCol w="2362320"/>
                <a:gridCol w="3047760"/>
                <a:gridCol w="2819520"/>
              </a:tblGrid>
              <a:tr h="840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знаки           сравнения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органические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тализаторы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ерменты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Химическ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ро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изкомолекулярные вещества, образованные 1 или нескольки-ми элементам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лки – высокомолекуляр-ные полимер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5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Селективнос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изкая, универсальный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t – Pt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скоряет множ. реакций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сокая. На каждую р-цию нужен свой фермент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1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Оптимум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льнокислая или щелочн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большой интервал, у кажд. органа – свой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8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Интервал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мператур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чень широкие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 – 42 градуса, затем денатурируют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Изменение структуры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at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ходе    реакц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меняется незначительно, или не изменяется вовсе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льно изменяются и восстанавливаются в исходную структуру по окончании реакци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7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 Увеличение скорости реакции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100 – 1000000 раз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 10 в 8 степени до 10 в 12 степени раз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WordArt 5"/>
          <p:cNvSpPr txBox="1"/>
          <p:nvPr/>
        </p:nvSpPr>
        <p:spPr>
          <a:xfrm>
            <a:off x="2556000" y="1052640"/>
            <a:ext cx="381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Фермент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104" name="Text Box 9"/>
          <p:cNvSpPr/>
          <p:nvPr/>
        </p:nvSpPr>
        <p:spPr>
          <a:xfrm>
            <a:off x="4211640" y="3129120"/>
            <a:ext cx="43927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вухкомпонент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елки + производ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итамин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11"/>
          <p:cNvSpPr/>
          <p:nvPr/>
        </p:nvSpPr>
        <p:spPr>
          <a:xfrm flipH="1">
            <a:off x="2410920" y="2276640"/>
            <a:ext cx="107964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12"/>
          <p:cNvSpPr/>
          <p:nvPr/>
        </p:nvSpPr>
        <p:spPr>
          <a:xfrm>
            <a:off x="5149800" y="2276640"/>
            <a:ext cx="934920" cy="504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Овал 6"/>
          <p:cNvSpPr/>
          <p:nvPr/>
        </p:nvSpPr>
        <p:spPr>
          <a:xfrm>
            <a:off x="500040" y="2786040"/>
            <a:ext cx="3786120" cy="250020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днокомпонент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ел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Овал 7"/>
          <p:cNvSpPr/>
          <p:nvPr/>
        </p:nvSpPr>
        <p:spPr>
          <a:xfrm>
            <a:off x="4500720" y="2857680"/>
            <a:ext cx="4143240" cy="250020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вухкомпонент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елки + производ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итамин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" name="Group 23"/>
          <p:cNvGrpSpPr/>
          <p:nvPr/>
        </p:nvGrpSpPr>
        <p:grpSpPr>
          <a:xfrm>
            <a:off x="0" y="1447920"/>
            <a:ext cx="8153280" cy="5410080"/>
            <a:chOff x="0" y="1447920"/>
            <a:chExt cx="8153280" cy="5410080"/>
          </a:xfrm>
        </p:grpSpPr>
        <p:sp>
          <p:nvSpPr>
            <p:cNvPr id="110" name="AutoShape 24"/>
            <p:cNvSpPr/>
            <p:nvPr/>
          </p:nvSpPr>
          <p:spPr>
            <a:xfrm>
              <a:off x="0" y="1447920"/>
              <a:ext cx="8153280" cy="54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Oval 25"/>
            <p:cNvSpPr/>
            <p:nvPr/>
          </p:nvSpPr>
          <p:spPr>
            <a:xfrm>
              <a:off x="1892160" y="1825200"/>
              <a:ext cx="3933720" cy="1006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ФЕРМЕНТ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26"/>
            <p:cNvSpPr/>
            <p:nvPr/>
          </p:nvSpPr>
          <p:spPr>
            <a:xfrm flipH="1">
              <a:off x="2183760" y="2832120"/>
              <a:ext cx="873000" cy="62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Line 27"/>
            <p:cNvSpPr/>
            <p:nvPr/>
          </p:nvSpPr>
          <p:spPr>
            <a:xfrm>
              <a:off x="4513680" y="2832120"/>
              <a:ext cx="582840" cy="62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28"/>
            <p:cNvSpPr/>
            <p:nvPr/>
          </p:nvSpPr>
          <p:spPr>
            <a:xfrm>
              <a:off x="1019160" y="3460680"/>
              <a:ext cx="2037960" cy="75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3300"/>
                  </a:solidFill>
                  <a:latin typeface="Arial"/>
                </a:rPr>
                <a:t>ПРОТЕИН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29"/>
            <p:cNvSpPr/>
            <p:nvPr/>
          </p:nvSpPr>
          <p:spPr>
            <a:xfrm>
              <a:off x="4076640" y="3460680"/>
              <a:ext cx="2911320" cy="75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3300"/>
                  </a:solidFill>
                  <a:latin typeface="Arial"/>
                </a:rPr>
                <a:t>ПРОТЕИД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Line 30"/>
            <p:cNvSpPr/>
            <p:nvPr/>
          </p:nvSpPr>
          <p:spPr>
            <a:xfrm>
              <a:off x="5677560" y="4216320"/>
              <a:ext cx="582840" cy="62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Line 31"/>
            <p:cNvSpPr/>
            <p:nvPr/>
          </p:nvSpPr>
          <p:spPr>
            <a:xfrm flipH="1">
              <a:off x="3785040" y="4216320"/>
              <a:ext cx="873000" cy="62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Rectangle 32"/>
            <p:cNvSpPr/>
            <p:nvPr/>
          </p:nvSpPr>
          <p:spPr>
            <a:xfrm>
              <a:off x="2475360" y="4844880"/>
              <a:ext cx="2183040" cy="1132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Белковая част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9900"/>
                  </a:solidFill>
                  <a:latin typeface="Arial"/>
                </a:rPr>
                <a:t>(апрофермент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Rectangle 33"/>
            <p:cNvSpPr/>
            <p:nvPr/>
          </p:nvSpPr>
          <p:spPr>
            <a:xfrm>
              <a:off x="5532840" y="4844880"/>
              <a:ext cx="2183040" cy="1132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Небелковая част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9900"/>
                  </a:solidFill>
                  <a:latin typeface="Arial"/>
                </a:rPr>
                <a:t>(кофермент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543800" cy="111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троение ферментов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39F25-2F7B-4E24-9D7D-9763296CA95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99"/>
                </a:solidFill>
                <a:latin typeface="Arial"/>
              </a:rPr>
              <a:t>Отличия ферментов от небиологических катализаторов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4"/>
          <p:cNvSpPr/>
          <p:nvPr/>
        </p:nvSpPr>
        <p:spPr>
          <a:xfrm>
            <a:off x="539640" y="1268280"/>
            <a:ext cx="8425080" cy="0"/>
          </a:xfrm>
          <a:prstGeom prst="line">
            <a:avLst/>
          </a:prstGeom>
          <a:ln w="572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7"/>
          <p:cNvSpPr/>
          <p:nvPr/>
        </p:nvSpPr>
        <p:spPr>
          <a:xfrm>
            <a:off x="611280" y="1509840"/>
            <a:ext cx="82818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ставные ферменты: белковая часть обеспечивает связывание субстрата, а катализ осуществляют небелковые (мономерные) соединения, называемые </a:t>
            </a:r>
            <a:r>
              <a:rPr b="0" i="1" lang="ru-RU" sz="2800" spc="-1" strike="noStrike">
                <a:solidFill>
                  <a:srgbClr val="ff3300"/>
                </a:solidFill>
                <a:latin typeface="Arial"/>
              </a:rPr>
              <a:t>коферментом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кофактором, простетической группой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. Белковая часть такого фермента называется </a:t>
            </a: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апоферментом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а активный фермент (комплекс апофермента и кофермента) — </a:t>
            </a: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холоферментом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0EFF0-EA2F-4144-9834-3A80D70A637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3399"/>
                </a:solidFill>
                <a:latin typeface="Arial"/>
              </a:rPr>
              <a:t>Коферменты и витамины</a:t>
            </a:r>
            <a:r>
              <a:rPr b="0" lang="ru-RU" sz="34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3"/>
          <p:cNvSpPr/>
          <p:nvPr/>
        </p:nvSpPr>
        <p:spPr>
          <a:xfrm>
            <a:off x="539640" y="1125360"/>
            <a:ext cx="8425080" cy="0"/>
          </a:xfrm>
          <a:prstGeom prst="line">
            <a:avLst/>
          </a:prstGeom>
          <a:ln w="572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611280" y="1341360"/>
            <a:ext cx="82818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ледует выделить отдельно группу коферментов, т.е. тех соединений, которые образованы из соответствующих витаминов или синтезированы самостоятельно данным организмом для осуществления того или иного химического процесса в живой клетк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Object 2"/>
          <p:cNvGraphicFramePr/>
          <p:nvPr/>
        </p:nvGraphicFramePr>
        <p:xfrm>
          <a:off x="179280" y="4724280"/>
          <a:ext cx="8906040" cy="1652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4724280"/>
                    <a:ext cx="8906040" cy="165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2FF9D-1492-4782-AA60-7944FC0DCD5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99"/>
                </a:solidFill>
                <a:latin typeface="Arial"/>
              </a:rPr>
              <a:t>Кинетика ферментативных реакций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3"/>
          <p:cNvSpPr/>
          <p:nvPr/>
        </p:nvSpPr>
        <p:spPr>
          <a:xfrm>
            <a:off x="539640" y="907920"/>
            <a:ext cx="8425080" cy="0"/>
          </a:xfrm>
          <a:prstGeom prst="line">
            <a:avLst/>
          </a:prstGeom>
          <a:ln w="572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6"/>
          <p:cNvSpPr/>
          <p:nvPr/>
        </p:nvSpPr>
        <p:spPr>
          <a:xfrm>
            <a:off x="468360" y="958680"/>
            <a:ext cx="82803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Количество фермента можно определить по его активност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35"/>
          <p:cNvSpPr/>
          <p:nvPr/>
        </p:nvSpPr>
        <p:spPr>
          <a:xfrm>
            <a:off x="468360" y="2223360"/>
            <a:ext cx="8424720" cy="35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За единицу активности фермента принимается такое количество фермента, которое катализирует превращение 1 мкмоля субстрата (1 мкмоль = 10–6 моля) в 1 мин при 25°С в оптимальных условиях действия фермента.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1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ff3300"/>
                </a:solidFill>
                <a:latin typeface="Arial"/>
              </a:rPr>
              <a:t>Удельной активностью </a:t>
            </a: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называется число единиц ферментативной активности в расчете на 1 мг белк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3T21:15:36Z</dcterms:created>
  <dc:creator>Ник Мартинович</dc:creator>
  <dc:description/>
  <dc:language>en-US</dc:language>
  <cp:lastModifiedBy>Admin</cp:lastModifiedBy>
  <dcterms:modified xsi:type="dcterms:W3CDTF">2012-11-23T05:13:18Z</dcterms:modified>
  <cp:revision>19</cp:revision>
  <dc:subject/>
  <dc:title>Слайд 1</dc:title>
</cp:coreProperties>
</file>